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F6B-C73D-4FCC-B0C0-D18C8C2F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2D2-91AC-4122-8FE9-7C63EA01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1A5-DFEF-438D-BEFB-4BB59A0E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BE9-7D33-4AE1-B52D-6599476B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28F-F8EE-445E-A34A-653ACE68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3C3-A24F-4FEB-AE09-D612E064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74B-6DAC-4A45-99BC-2865C877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A16-3C95-4F79-99E3-121DBCA2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149-EA4E-42C0-9DED-6041C515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EC21-376C-44ED-BFDD-10D7D1BB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B8D-1EFB-4922-8A6C-8FFE6267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DAC-6D0D-4DFD-A025-762C05BA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6DB6-1672-4A80-B614-A68F822DE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9640" y="384120"/>
          <a:ext cx="69552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4120"/>
                    <a:ext cx="69552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189000"/>
            <a:ext cx="727236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OM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Â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MINISTERUL EDUCAŢI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 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ŞI CERCETĂR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CENTRUL NAŢIONAL PENTRU DEZVOLT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ÎNVĂŢĂMÂNTULUI PROFESIONAL ŞI TEH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955880"/>
            <a:ext cx="8105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IFICĂRI ŞI CURRICULUM ÎN ÎNVĂŢĂMÂNTUL PROFESIONAL ŞI TEH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115640" y="1484280"/>
            <a:ext cx="7451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ROIECTAREA ŞI IMPLEMENTAREA CURRICULUMULUI ÎN IP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biective principal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regătire pentru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arieră profesională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– corelarea curriculumului din Î.P.T. cu cerinţele pieţei munc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sigurarea condiţiilor pentru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ntinuarea studi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mpon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aţională – trunchi comun + curriculum diferenţi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Locală – CDL elaborat la nivelul unităţii de învăţământ pe baza solicitărilor angaja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76200" y="189000"/>
          <a:ext cx="81108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89000"/>
                    <a:ext cx="8110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038240" y="2276640"/>
            <a:ext cx="763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189000"/>
            <a:ext cx="727236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OM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Â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MINISTERUL EDUCAŢI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 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ŞI CERCETĂR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CENTRUL NAŢIONAL PENTRU DEZVOLT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ÎNVĂŢĂMÂNTULUI PROFESIONAL ŞI TEH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42920" y="1484280"/>
            <a:ext cx="752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rocesul de proiectare şi elaborare a curriculum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3399"/>
                </a:solidFill>
                <a:latin typeface="Arial"/>
              </a:rPr>
              <a:t>Eta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dentificarea calificărilor profesionale solicitate pe piaţa munc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tabilirea nivelului educaţional corespunză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laborarea Standardelor de Pregătire Profesio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Validarea Standardelor de Pregătire Profesio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laborarea Curriculumului pe baza SPP val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vizarea Curriculumului de către comisiile naţionale de specia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probarea Curriculumului de către Ministerul Educaţie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76200" y="189000"/>
          <a:ext cx="81108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89000"/>
                    <a:ext cx="8110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038240" y="2276640"/>
            <a:ext cx="763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189000"/>
            <a:ext cx="727236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OM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Â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MINISTERUL EDUCAŢI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 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ŞI CERCETĂR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CENTRUL NAŢIONAL PENTRU DEZVOLT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ÎNVĂŢĂMÂNTULUI PROFESIONAL ŞI TEH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640" y="1483920"/>
            <a:ext cx="7812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ROIECTARE CURRICULUM ÎN Î.P.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76200" y="189000"/>
          <a:ext cx="81108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89000"/>
                    <a:ext cx="8110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403280" y="189000"/>
            <a:ext cx="727236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OM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Â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MINISTERUL EDUCAŢI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 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ŞI CERCETĂR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CENTRUL NAŢIONAL PENTRU DEZVOLT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ÎNVĂŢĂMÂNTULUI PROFESIONAL ŞI TEH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038240" y="2060640"/>
            <a:ext cx="7710480" cy="3889080"/>
            <a:chOff x="1038240" y="2060640"/>
            <a:chExt cx="7710480" cy="3889080"/>
          </a:xfrm>
        </p:grpSpPr>
        <p:sp>
          <p:nvSpPr>
            <p:cNvPr id="61" name=""/>
            <p:cNvSpPr/>
            <p:nvPr/>
          </p:nvSpPr>
          <p:spPr>
            <a:xfrm>
              <a:off x="1038240" y="2276640"/>
              <a:ext cx="7637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43120" y="2981160"/>
              <a:ext cx="8128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333399"/>
                  </a:solidFill>
                  <a:latin typeface="Arial"/>
                </a:rPr>
                <a:t>S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72000" y="2908440"/>
              <a:ext cx="3960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333399"/>
                  </a:solidFill>
                  <a:latin typeface="Arial"/>
                </a:rPr>
                <a:t>PLAN CADRU DE ÎNVĂŢĂMÂ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60720" y="3933720"/>
              <a:ext cx="3527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333399"/>
                  </a:solidFill>
                  <a:latin typeface="Arial"/>
                </a:rPr>
                <a:t>CURRICULU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92360" y="4869000"/>
              <a:ext cx="18716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333399"/>
                  </a:solidFill>
                  <a:latin typeface="Arial"/>
                </a:rPr>
                <a:t>Trunchi com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80000" y="4869000"/>
              <a:ext cx="23763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333399"/>
                  </a:solidFill>
                  <a:latin typeface="Arial"/>
                </a:rPr>
                <a:t>Curriculum diferenţi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43640" y="4869000"/>
              <a:ext cx="14414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333399"/>
                  </a:solidFill>
                  <a:latin typeface="Arial"/>
                </a:rPr>
                <a:t>CD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95640" y="3357720"/>
              <a:ext cx="216036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858920" y="3319560"/>
              <a:ext cx="792360" cy="54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4360" y="4508640"/>
              <a:ext cx="439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88000" y="4292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84360" y="4508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77080" y="4508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88000" y="4508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32720" y="2131920"/>
              <a:ext cx="2016000" cy="576360"/>
            </a:xfrm>
            <a:prstGeom prst="wedgeRoundRectCallout">
              <a:avLst>
                <a:gd name="adj1" fmla="val -44643"/>
                <a:gd name="adj2" fmla="val 8526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1600" spc="-1" strike="noStrike">
                  <a:solidFill>
                    <a:srgbClr val="ff5050"/>
                  </a:solidFill>
                  <a:latin typeface="Arial"/>
                </a:rPr>
                <a:t>CNC + CND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0800000">
              <a:off x="1908000" y="5444640"/>
              <a:ext cx="1152720" cy="505080"/>
            </a:xfrm>
            <a:prstGeom prst="wedgeRoundRectCallout">
              <a:avLst>
                <a:gd name="adj1" fmla="val -43666"/>
                <a:gd name="adj2" fmla="val 7578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1800" spc="-1" strike="noStrike">
                  <a:solidFill>
                    <a:srgbClr val="ff5050"/>
                  </a:solidFill>
                  <a:latin typeface="Arial"/>
                </a:rPr>
                <a:t>C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0800000">
              <a:off x="3995640" y="5444640"/>
              <a:ext cx="1152720" cy="505080"/>
            </a:xfrm>
            <a:prstGeom prst="wedgeRoundRectCallout">
              <a:avLst>
                <a:gd name="adj1" fmla="val -43666"/>
                <a:gd name="adj2" fmla="val 7578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1800" spc="-1" strike="noStrike">
                  <a:solidFill>
                    <a:srgbClr val="ff5050"/>
                  </a:solidFill>
                  <a:latin typeface="Arial"/>
                </a:rPr>
                <a:t>CNDI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0800000">
              <a:off x="6227640" y="5444640"/>
              <a:ext cx="1152720" cy="505080"/>
            </a:xfrm>
            <a:prstGeom prst="wedgeRoundRectCallout">
              <a:avLst>
                <a:gd name="adj1" fmla="val -43666"/>
                <a:gd name="adj2" fmla="val 7578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1800" spc="-1" strike="noStrike">
                  <a:solidFill>
                    <a:srgbClr val="ff5050"/>
                  </a:solidFill>
                  <a:latin typeface="Arial"/>
                </a:rPr>
                <a:t>Şcoal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0920" y="2060640"/>
              <a:ext cx="2305080" cy="720720"/>
            </a:xfrm>
            <a:prstGeom prst="wedgeRoundRectCallout">
              <a:avLst>
                <a:gd name="adj1" fmla="val -44699"/>
                <a:gd name="adj2" fmla="val 7004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1600" spc="-1" strike="noStrike">
                  <a:solidFill>
                    <a:srgbClr val="ff5050"/>
                  </a:solidFill>
                  <a:latin typeface="Arial"/>
                </a:rPr>
                <a:t>Angajato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o-RO" sz="1600" spc="-1" strike="noStrike">
                  <a:solidFill>
                    <a:srgbClr val="ff5050"/>
                  </a:solidFill>
                  <a:latin typeface="Arial"/>
                </a:rPr>
                <a:t>Comitete Sector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42560" y="134100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aracteristicile curriculumului din Î.P.T.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3399"/>
                </a:solidFill>
                <a:latin typeface="Arial"/>
              </a:rPr>
              <a:t>MODULARI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Unităţile de competenţ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din SPP formează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modul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de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Modulul conţin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ompetenţele corespunzătoare unităţii din S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onţinuturi şi contexte de învăţ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recomandări privind procesul de predare – învăţare - evalu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exemple de instrumente de proiectare didactic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exemple de instrumente de evalu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valuarea competenţe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e durata parcurgerii modulului (evaluare curent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la finalizarea modulului (evaluare final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76200" y="189000"/>
          <a:ext cx="81108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89000"/>
                    <a:ext cx="8110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038240" y="2276640"/>
            <a:ext cx="763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189000"/>
            <a:ext cx="727236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OM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Â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MINISTERUL EDUCAŢI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 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ŞI CERCETĂR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CENTRUL NAŢIONAL PENTRU DEZVOLT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ÎNVĂŢĂMÂNTULUI PROFESIONAL ŞI TEH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826920" y="1483920"/>
            <a:ext cx="7632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aracteristicile curriculumului din Î.P.T.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3399"/>
                </a:solidFill>
                <a:latin typeface="Arial"/>
              </a:rPr>
              <a:t>CREDITE – </a:t>
            </a:r>
            <a:r>
              <a:rPr b="0" lang="ro-RO" sz="2000" spc="-1" strike="noStrike">
                <a:solidFill>
                  <a:srgbClr val="333399"/>
                </a:solidFill>
                <a:latin typeface="Arial"/>
              </a:rPr>
              <a:t>respectarea principiilor ECV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iecare unitate de competenţe are un număr de cre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umărul de credite al unei calificări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suma creditelor tuturor unităţilor de competenţe care formează calific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riterii pentru alocarea creditel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mplexitatea competenţelor care compun unitat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onderea unităţii de competenţe în structura califică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urata necesară pentru dobândirea competenţ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lumul muncii depuse de elev pentru dobândirea competenţ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76200" y="189000"/>
          <a:ext cx="81108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89000"/>
                    <a:ext cx="8110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38240" y="2276640"/>
            <a:ext cx="763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189000"/>
            <a:ext cx="727236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OM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Â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MINISTERUL EDUCAŢI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 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ŞI CERCETĂR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CENTRUL NAŢIONAL PENTRU DEZVOLT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ÎNVĂŢĂMÂNTULUI PROFESIONAL ŞI TEH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71640" y="1557360"/>
            <a:ext cx="7416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aracteristicile curriculumului din Î.P.T.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3399"/>
                </a:solidFill>
                <a:latin typeface="Arial"/>
              </a:rPr>
              <a:t>CREDITE  - utili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acilitarea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transfer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mpetenţelor (rezultatele învăţării)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tre diferite contexte de for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tre diferite trasee de for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acilitarea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cumulări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ezultatelor învăţării din perspectiva LLL (învăţarea pe tot parcursul vieţ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76200" y="189000"/>
          <a:ext cx="81108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89000"/>
                    <a:ext cx="8110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038240" y="2276640"/>
            <a:ext cx="763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189000"/>
            <a:ext cx="727236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OM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Â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MINISTERUL EDUCAŢI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 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ŞI CERCETĂR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CENTRUL NAŢIONAL PENTRU DEZVOLT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ÎNVĂŢĂMÂNTULUI PROFESIONAL ŞI TEH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71640" y="1557360"/>
            <a:ext cx="7416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76200" y="189000"/>
          <a:ext cx="81108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89000"/>
                    <a:ext cx="8110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038240" y="2276640"/>
            <a:ext cx="763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189000"/>
            <a:ext cx="727236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OM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Â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MINISTERUL EDUCAŢI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 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ŞI CERCETĂR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CENTRUL NAŢIONAL PENTRU DEZVOLT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ÎNVĂŢĂMÂNTULUI PROFESIONAL ŞI TEH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1557360"/>
            <a:ext cx="806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 creditelor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tribuite pe niveluri de calificare şi tipuri de unităţi de competen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9800" y="2997360"/>
            <a:ext cx="842328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Nivel 1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Nivel 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Nivel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Abilităţi cheie               15           5         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Unităţi Genera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Unităţi Specializ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15          10         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95280" y="260280"/>
          <a:ext cx="69516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6951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189000"/>
            <a:ext cx="7272360" cy="9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OM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Â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MINISTERUL EDUCAŢIE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 </a:t>
            </a:r>
            <a:r>
              <a:rPr b="0" lang="ro-RO" sz="1200" spc="-1" strike="noStrike">
                <a:solidFill>
                  <a:srgbClr val="000000"/>
                </a:solidFill>
                <a:latin typeface="Arial Black"/>
              </a:rPr>
              <a:t>ŞI CERCETĂR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CENTRUL NAŢIONAL PENTRU DEZVOLTAR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333399"/>
                </a:solidFill>
                <a:latin typeface="Arial Black"/>
              </a:rPr>
              <a:t>ÎNVĂŢĂMÂNTULUI PROFESIONAL ŞI TEH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197000"/>
            <a:ext cx="81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ALENDAR 2007 – ELABORARE CALIFICĂRI ŞI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9640" y="1700280"/>
          <a:ext cx="8229600" cy="5083200"/>
        </p:xfrm>
        <a:graphic>
          <a:graphicData uri="http://schemas.openxmlformats.org/drawingml/2006/table">
            <a:tbl>
              <a:tblPr/>
              <a:tblGrid>
                <a:gridCol w="647640"/>
                <a:gridCol w="5040360"/>
                <a:gridCol w="1008360"/>
                <a:gridCol w="15332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 crt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ţiune planificat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ea calificărilor profesionale solicitate pe piaţa muncii şi analiza nivelului educaţional corespunzător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ianuar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DI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re propuneri CNDIPT de modificare a Nomenclatorului Calificărilor Profesion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februar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DIPT+DGI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re proiect de HG pentru modificarea Nomenclatorului Calificărilor Profesionale şi înaintare către ministerele parten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februar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erul Educaţiei şi Cercetări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rea SPP pentru calificările noi sau supuse revizuir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e - April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DI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rea SPP de către Comitetele Sectoria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DI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rea curriculumului pe baza SPP validate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ie - M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DIP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zarea curriculumului în comisiile naţionale de specialitate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n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DIPT+DGI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barea curriculumului prin Ordin de Ministru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ul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DIPT+DGI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15:59:07Z</dcterms:created>
  <dc:creator>ELSACO Panther P4 1.6 Ghz</dc:creator>
  <dc:description/>
  <dc:language>en-US</dc:language>
  <cp:lastModifiedBy>Gabriela Ciobanu</cp:lastModifiedBy>
  <dcterms:modified xsi:type="dcterms:W3CDTF">2007-01-18T11:41:05Z</dcterms:modified>
  <cp:revision>129</cp:revision>
  <dc:subject/>
  <dc:title>Slide 1</dc:title>
</cp:coreProperties>
</file>